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7D1C-1146-4C5D-89B9-896299574C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213C-4D5A-4E17-B0DD-3058084FE9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5E8-57C0-43AE-9C2A-7D23ADAB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DD4-5C7D-4856-954A-5CF434D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DC1-98B6-468D-A642-A9070D66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AA2-19DC-408C-A078-9A41CE00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F158F-5DE0-46C2-9817-04D92A50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2A23F-ECB7-4CEF-A343-3EB95053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054A5-8C2A-4673-BC6E-D71EAC0E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450C3-C412-43F3-9962-CFD34529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336C7-7402-4DA6-A316-3BB521BC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8740B-BE9C-4479-9938-0C377911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7F731-388C-42BB-A068-C5DD1AA4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980-C393-450B-BD68-560A2EA9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99B1F-A09E-4E95-BC29-E5D574AC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FDB6F-ABCF-47C6-8B57-62F8378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E3581-7E03-427E-B9F6-A17DCAFE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357D4-7FDC-405D-890B-FAFBA9D9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B7CE2-F280-4889-85CE-A1853107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0361-E080-44C1-9CDB-D8C75F3D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16FB-0D57-4F51-A85A-0A0C21D9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96AD-89D2-4C82-A7A5-AD1F1059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041A-D457-46D1-BBE6-B700EA36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C1DB-C7D5-44CE-9285-A5B61A75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0B2-DEF2-42F3-A0CA-6EF21B0A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83B38-DDDF-4019-A9D6-BB5A41D4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0ABE-909D-49D2-971B-1828663A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EECF-54D2-4061-B8F6-8F743C3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98BC5-CF34-4341-9C4E-1418F01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5BC8-C9C0-4A37-9A45-827874B0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69E0-941C-4B2E-9B1F-A1E1D106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9374-53E9-4680-A807-DE94F1E5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D4A70-451F-4A76-989D-9C7E8E90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4E518-4D66-40BC-B76E-77EFA101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1AF7E-059A-474A-93FA-E49EC28A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3C3-D6EB-4EB0-8431-1E9150D5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5B53DB-C27D-4165-89CE-B9296606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3DAA3C-FA88-4264-BB0E-469D0DCA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F373D-E86A-45B8-9E83-EAB4B7E7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0857F-FF5E-4F87-A73A-6BE4186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307AC-21A9-4490-A640-104AE00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DDABB-A976-4C22-BB3E-0F6FF7AE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AF63E-D155-4CD5-980C-DC09D3F3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37CF8-EF39-4453-8436-7D8A2D92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66977-1D66-4C3F-88F1-2DB433CF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3BC75-E6A9-4F7C-9790-26804E3A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B99-12F7-4F07-AA69-02B04394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B6291-E6D4-4653-AE9E-E72B188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670C6-B551-4BEB-9ABA-D579BD4F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1B0EE-C572-4F5B-A3C9-62BBFFD6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BF645-48EF-4E3C-8696-E783C319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7F5BF-09DD-447A-8FAE-1D77CE19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79E8B-23BE-46A3-8051-09DFC41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B7FF5-8E1E-4F6D-BB8B-0354200B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91621-4E79-4865-B312-0D060647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3FD77-E7D1-4F3F-A561-316CEAB9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FDD68-F5D9-4D3E-96D1-22515B3B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4BE-765D-4A27-8D48-7B60779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FEF73-4173-4D83-ACFF-C0D2AE8D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439AF-32FD-4C08-B6DF-26868396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1BACA-A4AE-4C91-BFDA-A09521D2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88279-9A64-4B64-8350-6B9B2BA6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018F3-F707-4B23-A97D-50CA8CC4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DF0CB-F265-4BA1-BC6A-36750C5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FAF8C-4016-41DB-9C6C-85ECF0E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9DD71-8C30-4488-91D3-70867F2A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F71DD-C39A-4EF4-9B26-44E9619D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931D3-278D-4BC5-B580-6CA51850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6EC-4D42-43D1-AA54-70F988B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9D59B-FD53-4002-A3B7-91275C0C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BFC5F-8E58-4746-B007-3CCBCADD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33027-2DCB-4FB8-AD0D-783D1B75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33A-831E-4497-897D-0B618FD8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469-20FB-43B9-A84A-81539747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3049-3492-4357-AB45-4830E5D165A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8BC4-9AD7-444C-A507-50CD97EEBCB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4CD9-4E7F-4408-9B26-35F77C442A5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3939-74CF-4B27-B6A7-93AFA1BDA1F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57E8-6CAB-45C3-A814-F5541707F05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93B6-70D5-48E2-9974-E55DE67A010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23640" y="3716280"/>
            <a:ext cx="83055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>
              <a:lnSpc>
                <a:spcPct val="100000"/>
              </a:lnSpc>
              <a:spcBef>
                <a:spcPts val="337"/>
              </a:spcBef>
              <a:buClr>
                <a:srgbClr val="d6903d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536142"/>
                </a:solidFill>
                <a:latin typeface="Constantia"/>
              </a:rPr>
              <a:t>68 видов в мире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36142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536142"/>
                </a:solidFill>
                <a:latin typeface="Constantia"/>
              </a:rPr>
              <a:t>более 20 видов в России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одержимое 3" descr="799c42061e55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464796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2" descr=""/>
          <p:cNvPicPr/>
          <p:nvPr/>
        </p:nvPicPr>
        <p:blipFill>
          <a:blip r:embed="rId2"/>
          <a:stretch/>
        </p:blipFill>
        <p:spPr>
          <a:xfrm>
            <a:off x="219240" y="66600"/>
            <a:ext cx="86565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3" descr="3675516470_e08b56dd37_z.png"/>
          <p:cNvPicPr/>
          <p:nvPr/>
        </p:nvPicPr>
        <p:blipFill>
          <a:blip r:embed="rId1"/>
          <a:stretch/>
        </p:blipFill>
        <p:spPr>
          <a:xfrm>
            <a:off x="1332000" y="2349360"/>
            <a:ext cx="6218280" cy="4145040"/>
          </a:xfrm>
          <a:prstGeom prst="rect">
            <a:avLst/>
          </a:prstGeom>
          <a:ln w="0">
            <a:noFill/>
          </a:ln>
        </p:spPr>
      </p:pic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255600" y="255600"/>
            <a:ext cx="84376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Содержимое 3" descr="Bandedsextonbeetle-Nicrophorusinvestigator-620x519.jpg"/>
          <p:cNvPicPr/>
          <p:nvPr/>
        </p:nvPicPr>
        <p:blipFill>
          <a:blip r:embed="rId1"/>
          <a:stretch/>
        </p:blipFill>
        <p:spPr>
          <a:xfrm>
            <a:off x="1332000" y="1979640"/>
            <a:ext cx="5832360" cy="4618080"/>
          </a:xfrm>
          <a:prstGeom prst="rect">
            <a:avLst/>
          </a:prstGeom>
          <a:ln w="0">
            <a:noFill/>
          </a:ln>
        </p:spPr>
      </p:pic>
      <p:pic>
        <p:nvPicPr>
          <p:cNvPr id="266" name="Заголовок 2" descr=""/>
          <p:cNvPicPr/>
          <p:nvPr/>
        </p:nvPicPr>
        <p:blipFill>
          <a:blip r:embed="rId2"/>
          <a:stretch/>
        </p:blipFill>
        <p:spPr>
          <a:xfrm>
            <a:off x="255600" y="60480"/>
            <a:ext cx="8437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3" descr="683559.jpg"/>
          <p:cNvPicPr/>
          <p:nvPr/>
        </p:nvPicPr>
        <p:blipFill>
          <a:blip r:embed="rId1"/>
          <a:stretch/>
        </p:blipFill>
        <p:spPr>
          <a:xfrm>
            <a:off x="2050920" y="1808280"/>
            <a:ext cx="4044960" cy="4716360"/>
          </a:xfrm>
          <a:prstGeom prst="rect">
            <a:avLst/>
          </a:prstGeom>
          <a:ln w="0">
            <a:noFill/>
          </a:ln>
        </p:spPr>
      </p:pic>
      <p:pic>
        <p:nvPicPr>
          <p:cNvPr id="268" name="Заголовок 2" descr=""/>
          <p:cNvPicPr/>
          <p:nvPr/>
        </p:nvPicPr>
        <p:blipFill>
          <a:blip r:embed="rId2"/>
          <a:stretch/>
        </p:blipFill>
        <p:spPr>
          <a:xfrm>
            <a:off x="219240" y="139680"/>
            <a:ext cx="84740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2:28:14Z</dcterms:created>
  <dc:creator>Мария</dc:creator>
  <dc:description/>
  <dc:language>en-US</dc:language>
  <cp:lastModifiedBy>Мария</cp:lastModifiedBy>
  <dcterms:modified xsi:type="dcterms:W3CDTF">2012-03-10T17:31:39Z</dcterms:modified>
  <cp:revision>33</cp:revision>
  <dc:subject/>
  <dc:title>Жук-могильщик</dc:title>
</cp:coreProperties>
</file>